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896400" y="731880"/>
            <a:ext cx="48769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D58D-A646-447C-9BF3-BA516BA95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12AF-F7E6-44D5-8B07-CAA189866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013F-9AD6-4B80-9BEC-AD874C110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8873-E430-48E8-9AFC-5D6507FD6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8C8E-F6B3-4281-AA04-678C399D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E5D8-DDCB-4FFA-9A2E-7344FD25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C2A8-BC9A-4631-AB26-DE7A9C830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7764-4611-44DD-80E0-7CF4B276D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4A3B-2C6E-4471-A77F-A9977753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5EDB-6309-4F4D-BDE1-963F2126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BBCD-7D67-4F7B-AB83-3D1A0FB2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CE42-0CD5-42AB-9555-B037C3B6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3661-2E52-4A15-9F14-40E9E5EF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6247-2417-4BEA-B419-8403CE9A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2F4C-7566-4290-B541-D6AE08A7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71F1-6B54-4C58-BF5C-DFFF22BB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AB4D-1D31-4069-9ECA-90637061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8A29-319A-49AF-BCBB-14F3CBCE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18D0-91B0-4FD4-955C-FAA6C19E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362A-17EC-411F-8244-64D9424FE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08AD-5E7D-48C4-82B3-5E850F61A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37E0-76DB-4B75-8190-DF498070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3331-15F8-4C38-A3B7-E46AAE20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F608-548B-4949-8A4D-59FA6A38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0718-24F5-4E11-827A-387466DF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2742-C814-4101-AF02-0BAAB3F3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8D22-112F-444C-AF49-B0ABA8D5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9C4B-A595-4E1D-8275-6114B21D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SM Library - 1/2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FE2C-19A8-4952-96BE-35159FE16FB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SM Library - 1/2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234A-2DE2-46AE-B9E7-631E390C5AD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SM Library - 1/2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Cit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oks, pictures, pamphlets, artwork, websites, advertisement, personal interviews, magazines, journals, emails, CD ROMs, DVDs, maps, newspapers, discussion groups, blogs, letters, TV programs, movies, music, lectures, teachers, other students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n’t need to ci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r own experience, results of your experiments, common knowled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on knowledge: facts that are well known (7 days in a week); commonsense observations (temperature raises when the water starts to bo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33"/>
                </a:solidFill>
                <a:latin typeface="Garamond"/>
              </a:rPr>
              <a:t>When in doubt, Cit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SM Library - 1/2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itation Sty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L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rom the Modern Language Association of America. Often preferred in the fields of languages, literature, ar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P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American Psychological Association. Often preferred in the fields of psychology and many other social sciences (anthropology, communications, education, sociology, economics, busines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SM Library - 1/2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MLA citation</a:t>
            </a:r>
            <a:br>
              <a:rPr sz="3200"/>
            </a:b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Example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.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itle of Boo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City of Publication: Publisher, Yea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CYCLOPEDIAS and REFERENCE BOOK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 of Article (if given). "Article Title."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itle of Boo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City of Publication: Publish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e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GAZINE ARTIC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. "Title of Article."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itle of Magazi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ate: Page(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SPAPER ARTIC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. "Title of Article."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ame of Newspap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ate, edition: Page(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vie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on Interviewed. Type of Interview, telephone, email, d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SM Library - 1/2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MLA citation</a:t>
            </a:r>
            <a:br>
              <a:rPr sz="3200"/>
            </a:b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Example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 SIT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e publication information may not be available for a Web site; provide what is giv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ire Internet Site: Scholarly Project or Professional Si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itle of the Si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Editor. Date and/or Version Number. Name of Sponsoring Instit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e of Access &lt;URL&gt;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ncyclopedia Mythic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2004. 13 May 2004 &lt;http://www.pantheon.org/&gt;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ibliograph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LA Citation Examp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Honolulu Community College Libra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tober 1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2010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honolulu.hawaii.edu/library/mlahcc.html&gt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SM Library - 1/2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2:32:44Z</dcterms:created>
  <dc:creator>Owner</dc:creator>
  <dc:description/>
  <dc:language>en-US</dc:language>
  <cp:lastModifiedBy>Veronica</cp:lastModifiedBy>
  <dcterms:modified xsi:type="dcterms:W3CDTF">2010-10-13T17:34:28Z</dcterms:modified>
  <cp:revision>77</cp:revision>
  <dc:subject/>
  <dc:title>IB – EE  Library Workshop 8</dc:title>
</cp:coreProperties>
</file>